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B2ED-D2E6-48AF-8E40-0359570C7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DEC5-4D30-4934-A0CA-42F600F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D06E-A785-4CF8-8580-42B3FB3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D869-FD64-484F-8641-5B0AC5F00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F78D-025D-4E82-A8CE-4766426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B93F-6398-4474-9D3F-C4DC69DA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C672-457E-41C9-845B-C46E1CC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6B3C-7B3A-4083-8039-0613F151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F8B3-E5BF-41D4-AC4D-DEA973A0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F40B-4184-40E5-9C48-992308E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09D5-67B7-4BAA-B4B4-B121D46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334D-62EA-4D5B-A01D-650D945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599ED-A103-4823-B00B-1BC0AA0261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05120"/>
            <a:ext cx="77724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pical Rainforest, Tropical Dry Forest, Tropical Grass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ia Fill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elaS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lsey St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Bio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ome is a major regional complex of similar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ecognized primarily by its dominant plant type and vegetation struc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318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Central America, South America, South East Asia, and West Af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ar round rain and warm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k damp interiors, lush vegetation, and diverse biotic commun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forest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417680"/>
            <a:ext cx="647712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ry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84582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India, Africa, South America and Northern Austra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wet and dry seasons that both span about half a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all is lower overall and highly seas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year 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ry Forest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4853" t="10128" r="19802" b="15184"/>
          <a:stretch/>
        </p:blipFill>
        <p:spPr>
          <a:xfrm>
            <a:off x="1143000" y="13716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-3024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Grass Land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ferred to as Sav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49600"/>
            <a:ext cx="41148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across stretches of Africa, South America, Australia, and In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 during distinct rainy seas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Grassland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01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06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0-11-04T12:47:16Z</dcterms:modified>
  <cp:revision>3</cp:revision>
  <dc:subject/>
  <dc:title>Biomes Tropical Rainforest, Tropical Dry Forest, Tropical Grass Land</dc:title>
</cp:coreProperties>
</file>